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7EE-765A-45FA-A079-0D0FC73B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998-930E-48FD-93CD-D00992A4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74B-5AC4-47C1-A0BF-67499164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F58-3E0D-4A81-9071-6CED3080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FC1-47E9-43A2-8C36-2579EDDC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E85-38B8-4A83-AA4F-0FEE6715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891-4921-4C47-AE52-549E47AA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41E-8399-4C69-8DA9-9B1A563E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BE3-466A-4AC9-8CC5-989671B8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2EF-5E8D-4DCE-978C-A0B11D7E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91A-2F61-41B0-B3FF-4EC9D2FC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39C-DB19-4162-829C-C921250F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854D-7331-4D86-9555-519D2BA9C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ison Weid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5751360"/>
            <a:ext cx="10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5410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people and for the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s and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ol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ve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de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4248000"/>
            <a:ext cx="3505320" cy="261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’s Reli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ria’s people are mostly Sunni – Muslim and very few others are Christian and Je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are supposed to pray five times a day, dawn, noon, afternoon, sunset, and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 holy day is on Fridays, business are closed and sometimes close on Thursdays.  This makes Thursdays and Fridays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208116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’s Cur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of Algeria use the dinar curr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4572000" cy="1519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62720" y="2971800"/>
            <a:ext cx="3047760" cy="202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’s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ria’s economy will improve with oil as one of the main exports by continuously bringing in money for the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Algeria’s economy may decline with less or no sales of oil in the future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finds an alternate source of fuel instead of gaso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ria’s natural resource of oil runs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8120" y="2895480"/>
          <a:ext cx="247644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95480"/>
                    <a:ext cx="247644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’s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ria’s coordinates are 2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North and 3° East.  It is the second largest country in Africa and it’s capitol is Alg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116520" cy="335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’s Relative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ria is located in Northern Africa.  It borders the Mediterranean Sea and is between Morocco, Tunisia, Libya, Niger, Mali, Mauritania, Western Saha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54640" cy="51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ia’s population  is about 34,000,000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81% of the people speak Arab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4370400" cy="33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17 – Algeria was made part of the Ottoman Empire by Barbaros Hayreddin Pasa and his brother Aru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established Algeria’s modern bound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ria was under the Ottoman Empire until the French colo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985760" cy="266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0 – France invaded Alg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ook over the Ottoman Em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ia was under the rule of France for 132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3657600"/>
            <a:ext cx="4419720" cy="295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’s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4 – Algerian War of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poll that resulted in a landslide vote for complet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, July 5 -  Algeria became independent from F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610320" y="3352680"/>
            <a:ext cx="2265480" cy="32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ia’s government is Parliamentary 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ia’s current leader is Abdelaziz Bouteflika who was elected on April 27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3581640" cy="286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Se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– 5 Year Term, Limited to Two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 Minister Head of Government Appointed By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 – Lower Chamber and Upper Ch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ia is a multi-part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72200" y="4878360"/>
            <a:ext cx="2971800" cy="197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19:27Z</dcterms:created>
  <dc:creator>madisonweidner</dc:creator>
  <dc:description/>
  <dc:language>en-US</dc:language>
  <cp:lastModifiedBy>madisonweidner</cp:lastModifiedBy>
  <dcterms:modified xsi:type="dcterms:W3CDTF">2008-11-18T19:18:41Z</dcterms:modified>
  <cp:revision>26</cp:revision>
  <dc:subject/>
  <dc:title>Algeria</dc:title>
</cp:coreProperties>
</file>